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144-D38B-4C4C-B35B-69BA356A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98C-66CB-4DE1-AD3C-5F62107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11D-5E27-4DF1-A3F9-389D8454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21B-AA11-4F99-8265-B47B6A38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947-C28C-4372-8DC8-219E08E3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4F2-E9BA-4485-AB51-4114E2D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571-F94D-41B9-BC32-02FE6FC9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C7A-FFEC-4CDF-A239-03B30C1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FBF5-5A40-48FA-921E-A46483B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18C-6BC4-4EFC-8546-D7A0F7D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2FB-799F-460D-AA5B-F68CD14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5AF-593E-4851-95CE-E72D7E0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E84D-7F5A-49CD-989F-EA01571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C00E-9F8E-44D9-B658-A329D48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52AF-029A-4CD2-9B66-9BDD1CEF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735-EC6A-4A37-9483-DAA400C5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D75-3C4E-45CF-A456-32B66060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A02-543E-4801-B077-E12481E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625-EFBB-45BC-8890-69938796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A5C-4BC4-4B08-873E-FC1EC8B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ECD-A63A-496D-A417-EED94B68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160-F394-4659-88B4-0BFB2A7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85D-8811-4650-B5AF-A26F618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F96-4BC8-410C-8F33-2F610A3C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826-9F19-4E80-99C9-BE9BCAFB53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D60C-8E93-4579-A201-38D7B82DC4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OP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arch 16, 200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azing Aspen S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harismatic Ki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rcastic Scott E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c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rate at which information is presented during a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nature of the lesson content and the level of the students’ backgrou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practice but becomes easier as teachers develop familiarity with their students’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siting th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engage in practice with the four features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ompon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®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culty will discuss the import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sson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Delive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bject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upported by lesson deli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ly supported by lesson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engag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90-100% of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lesson is appropriate to the students’ abilit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ent &amp; Languag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should be stated orally and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objectives allow students to know the direction of the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riting Content &amp; Language 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ives should contain these four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om’s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(stand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(meaningful activ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nguage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goal for quality language practice (reading, writing, speaking, or listening) in the content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using academic language and content knowledge in languag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observable and measu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done by all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dividually, in pairs, or in a group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s of Content &amp; Language 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B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dentif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 events in an historical er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 constructing a time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B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y events in an historical e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ally presenting their timeline to the class including key vocabul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ent or Language Objectiv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differentiate between a plant and animal cell by illustrating the cells side by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justify the equivalency among decimals, fractions and percents by orally presenting their match to the class using the words decimal, fraction and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demonstrate text comprehension by sequencing events on a story s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BAT apply active reading strategies to comprehend text by writing personal responses on a double-entry diary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ent Eng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planned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explanation of academic tasks or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mount of time spent on an academic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lassroom manage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students to apply learning in a meaningful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design meets the language and learning needs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53:14Z</dcterms:created>
  <dc:creator>annramirez</dc:creator>
  <dc:description/>
  <dc:language>en-US</dc:language>
  <cp:lastModifiedBy>asanders1</cp:lastModifiedBy>
  <dcterms:modified xsi:type="dcterms:W3CDTF">2007-03-14T16:33:08Z</dcterms:modified>
  <cp:revision>63</cp:revision>
  <dc:subject/>
  <dc:title>District #6 SIOP Trainer of Trainers </dc:title>
</cp:coreProperties>
</file>